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9113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40D8-0FA4-4ED4-BFD8-8A1B4FA2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4AF-6810-44A8-B513-A9A97277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4B2-C688-4CD9-95DE-FEB58A96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9A6-40E3-402D-87AB-3EE7C7AA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D9F-F291-48C7-A3AC-11454D71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926-6060-4F36-B5AC-64A3F2D7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77D-2B99-4071-9E04-EDF24206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C9E-2EE6-4639-89F6-5C2AFED1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706-4D8C-4829-93B0-066F1ABE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076-B3EA-41E0-B08A-3563FC72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1F6C-6833-485C-B8CF-AFF9FCDA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332-8210-4B01-87D0-490E3438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A5A8-5207-4115-85CD-02F81F1FA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休業日横_背景-01.jpg"/>
          <p:cNvPicPr/>
          <p:nvPr/>
        </p:nvPicPr>
        <p:blipFill>
          <a:blip r:embed="rId2"/>
          <a:stretch/>
        </p:blipFill>
        <p:spPr>
          <a:xfrm>
            <a:off x="4680" y="-3240"/>
            <a:ext cx="18365760" cy="103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3"/>
          <p:cNvSpPr/>
          <p:nvPr/>
        </p:nvSpPr>
        <p:spPr>
          <a:xfrm>
            <a:off x="0" y="9072720"/>
            <a:ext cx="183657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4"/>
          <p:cNvSpPr/>
          <p:nvPr/>
        </p:nvSpPr>
        <p:spPr>
          <a:xfrm>
            <a:off x="6841080" y="9329760"/>
            <a:ext cx="46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1"/>
          <p:cNvSpPr/>
          <p:nvPr/>
        </p:nvSpPr>
        <p:spPr>
          <a:xfrm>
            <a:off x="2615040" y="1668600"/>
            <a:ext cx="449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ＭＳ Ｐゴシック"/>
              </a:rPr>
              <a:t>○</a:t>
            </a:r>
            <a:r>
              <a:rPr b="1" lang="ja-JP" sz="7200" spc="-1" strike="noStrike">
                <a:solidFill>
                  <a:srgbClr val="ff0000"/>
                </a:solidFill>
                <a:latin typeface="ＭＳ Ｐゴシック"/>
              </a:rPr>
              <a:t>月のおやす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2"/>
          <p:cNvSpPr/>
          <p:nvPr/>
        </p:nvSpPr>
        <p:spPr>
          <a:xfrm>
            <a:off x="2340360" y="3127320"/>
            <a:ext cx="505044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月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火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水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木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金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土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4568760" y="7736040"/>
            <a:ext cx="54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404040"/>
                </a:solidFill>
                <a:latin typeface="ＭＳ Ｐゴシック"/>
              </a:rPr>
              <a:t>ご来店の際は、お気をつけて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図 10" descr="休業日_タイトル.png"/>
          <p:cNvPicPr/>
          <p:nvPr/>
        </p:nvPicPr>
        <p:blipFill>
          <a:blip r:embed="rId1"/>
          <a:stretch/>
        </p:blipFill>
        <p:spPr>
          <a:xfrm>
            <a:off x="8326440" y="1308240"/>
            <a:ext cx="102855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52:18Z</dcterms:modified>
  <cp:revision>46</cp:revision>
  <dc:subject/>
  <dc:title>スライド 1</dc:title>
</cp:coreProperties>
</file>